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F2D6-1940-428D-9B1F-D6B068E3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AEB6C-955C-439B-B226-BFE1DA1B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83ECF-875B-4E12-BF0E-E9F191F9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22D4-A83B-4942-A70E-5EE62BB4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8B5C-7AD1-49B1-85DF-289A71EE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FE11-2C38-4216-B52F-D126BCD1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C8C6-7874-4B10-B0F4-B6AB8134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63A3-AFDA-43A5-86EC-A4D8A56E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CAF3-9563-4B89-A718-85144F5F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B295-3A91-4F07-9AA7-00B727BE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9BF6-5F5C-4EB8-B01C-53E57387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EC1E2-415E-4DC3-92D1-EE0EE592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7F1C-923E-4827-A54F-6DC6B447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7211-ACF5-4E65-BD7F-17C92902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8ACB-B144-4EE6-A4EC-F60DF936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807B-5359-44CA-A2F0-7CC7A4D9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99AC-C79F-48F5-AABD-262B3EBE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8886C-7CAB-45E0-9406-46E24D4A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AF8CE-A23D-4E21-AB57-B8158810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D441-4F28-4A39-A1C0-64BF1E2E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6389B-92E4-48FD-8853-E301FA49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4C31C-E3B8-4CDD-8D56-C6F9F847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C9686-3ABC-4EA7-A347-F9782829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EF9A-FFB0-4545-978E-8E214A40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A73A-3576-45F0-853B-72C3FD98D1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0F45-0FEE-4226-A203-80B7866F5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"/>
              </a:rPr>
              <a:t>2.02F Adding and Animating Text in Computer Animations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.02 Develop Computer Anim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60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performs the same function in an animation as it does in a graphic:  it provides information on the subject of the animation or directions to the vie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60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imation program provides the added option of animating the text in some way to make it more eff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frame_animation_timeline"/>
          <p:cNvPicPr/>
          <p:nvPr/>
        </p:nvPicPr>
        <p:blipFill>
          <a:blip r:embed="rId1"/>
          <a:stretch/>
        </p:blipFill>
        <p:spPr>
          <a:xfrm>
            <a:off x="1447920" y="4419720"/>
            <a:ext cx="6324480" cy="1949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33520" y="60948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Text in computer ani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dd a text object in animation soft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layer to hold the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text tool from the tool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text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the tex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formatting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, font size, and font sty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ext color and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44823" t="28966" r="48872" b="7294"/>
          <a:stretch/>
        </p:blipFill>
        <p:spPr>
          <a:xfrm>
            <a:off x="8077320" y="838080"/>
            <a:ext cx="761760" cy="5791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33520" y="609480"/>
            <a:ext cx="69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Adding text into computer animations 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11600" indent="-111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an appear and disappear in selected frames in the movie or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0" indent="-111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an fade in or fade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0" indent="-111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an follow a motion p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0" indent="-111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an scroll or change col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0" indent="-111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an blink on and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0" indent="-111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can appear one letter or word at a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1600" indent="-111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The possibilities for text animation will vary depending on the animation software being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105520" y="2971800"/>
            <a:ext cx="3809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0880" y="380880"/>
            <a:ext cx="69343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Possible Animation for Text </a:t>
            </a:r>
            <a:r>
              <a:rPr b="0" i="1" lang="en-US" sz="1800" spc="-1" strike="noStrike">
                <a:solidFill>
                  <a:srgbClr val="666699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9:51:13Z</dcterms:created>
  <dc:creator>tcunning</dc:creator>
  <dc:description/>
  <dc:language>en-US</dc:language>
  <cp:lastModifiedBy>Preferred User</cp:lastModifiedBy>
  <dcterms:modified xsi:type="dcterms:W3CDTF">2011-04-21T00:13:36Z</dcterms:modified>
  <cp:revision>35</cp:revision>
  <dc:subject/>
  <dc:title>6. Add and Animate text to an animation</dc:title>
</cp:coreProperties>
</file>